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8F2-DD4D-4233-A18C-5AF6CD82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B81-C742-4386-BF85-25AF7ADD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9E6D-48F1-4CFE-9DE5-42BE2BA24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292D-EA23-45EA-BD0E-E727AC7D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8CD7-A586-4650-A1FA-62F80381A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41B8-8D0F-44ED-BA64-CE1AFFEA2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AB8B-D8A9-4E4C-B72B-581EED87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235C-E41E-45EA-BE3F-9A81FD8D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E11-DA02-490B-A969-F4AD5CA3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0726-4A27-482F-9682-4F791FCC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971-A873-48D3-BEA0-9778A7C8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812C-4240-41C6-B848-6FA9B0E32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82D4-F6A1-433D-932B-A53B58AF7B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VdQ9PK9Q5o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Hungarian Uprising 19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GCSE 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ablish how Stalin controlled Eastern Eur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why there was opposition to Soviet Control of Hungary 19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ore how the Hungarians showed their dis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the reaction of the Soviet U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ge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Read pages 397 to 401 of our text boo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ke no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Stalin controlled Eastern Europe and why there seemed to be an opportunity to criticise the Sovi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cc0000"/>
                </a:solidFill>
                <a:latin typeface="Calibri"/>
              </a:rPr>
              <a:t>2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ngarian Upri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information sheets and pages 402 and 403 of your text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points to the diagram using the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NN The Cold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63640" y="4941720"/>
            <a:ext cx="554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Berlin Sans FB"/>
                <a:hlinkClick r:id="rId1"/>
              </a:rPr>
              <a:t>Hungarian Revolt 19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92360" y="1484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the following video carefully. Make notes which answer today’s main 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640" y="2707920"/>
            <a:ext cx="5338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why there was opposition to Soviet Control of Hungary 19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re how the Hungarians showed their dis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reaction of the Soviet 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a final draft of the diagram online, save and print before next lesson. Add information from these websi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johndclare.net/cold_war14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ews.bbc.co.uk/onthisday/hi/dates/stories/october/23/newsid_3140000/3140400.s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spartacus.schoolnet.co.uk/COLDhungarianU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schoolhistory.co.uk/lessons/coldwar/coldwar_hungary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minder : History coursework due 4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M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01:05:50Z</dcterms:created>
  <dc:creator>rachel.harris</dc:creator>
  <dc:description/>
  <dc:language>en-US</dc:language>
  <cp:lastModifiedBy>rachel.harris</cp:lastModifiedBy>
  <dcterms:modified xsi:type="dcterms:W3CDTF">2011-02-11T02:28:11Z</dcterms:modified>
  <cp:revision>3</cp:revision>
  <dc:subject/>
  <dc:title>The Hungarian Uprising 1956</dc:title>
</cp:coreProperties>
</file>